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904A-FAD8-4E1B-B911-F82EE1072D7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Cabe destacar que la pobreza se redujo del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Como se puede ver, a partir de 1994 el desempleo ha presentado una tendencia decrecient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ste se ajustó rápidamente tras la Crisis del Tequila y luego de 1998, llegó a los niveles más bajos desde 198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l NAFTA también permitió un rápido ajuste de los salarios reales tras dicha cri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Mayores salarios en el sector exportador y también en el que compite con las importacio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8F0C-9BC2-4038-9E41-D22E3421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1E2B-C033-4CAF-AB02-6840699E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88E5-61ED-4461-B662-590A73115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461E-87DE-4F23-B9A0-3DFC5CBBE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2F2E-9E15-4D03-ABB7-92AECC56F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20A5-4519-4EB9-AA27-C8E22358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7446-468D-4F71-93FF-C613159E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E047-B97E-41E4-92AC-386DEAAF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6A82-2B15-4663-A8DD-519A4C00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675F-B601-4A66-83E9-9C0C71E9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1576-4703-4A38-B802-7A4EE669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535B-5E88-45D7-A02C-94064758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4B18-4F11-4CBD-BA35-3D6FA6A8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8884-3EE4-42DB-9CA0-30B6D839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773D-4D06-4536-B355-57001AEC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2881-6DF6-433B-835E-FEB1305A6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64ED-D3CC-4962-A4C7-EC8AB0A2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01E2-8FAB-48D2-A7C0-8F4ECC6E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84FE-BFC0-4178-AD11-65B70498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9288-0594-4716-94DC-0CA855B5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4995-C918-4DCF-83E5-9D289AA4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E1A3-38E1-4EDC-A951-450DEDAC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DEA4-F5F0-488D-A9AE-C184128D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17AA-558F-410C-9E6A-2B14A720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8D53-DF8C-4C8E-ABB8-1325F9C16945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53D4-AD1B-4043-B5A4-B3762420CDC5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8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2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6" dur="50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000"/>
                            </p:stCondLst>
                            <p:childTnLst>
                              <p:par>
                                <p:cTn id="5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RESULTADOS DEL GATT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835280" y="1666800"/>
            <a:ext cx="572112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PAISES MIEMBROS DE LA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971640" y="1906560"/>
            <a:ext cx="79167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3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4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8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5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52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450"/>
                            </p:stCondLst>
                            <p:childTnLst>
                              <p:par>
                                <p:cTn id="56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250"/>
                            </p:stCondLst>
                            <p:childTnLst>
                              <p:par>
                                <p:cTn id="57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800"/>
                            </p:stCondLst>
                            <p:childTnLst>
                              <p:par>
                                <p:cTn id="585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300"/>
                            </p:stCondLst>
                            <p:childTnLst>
                              <p:par>
                                <p:cTn id="59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850"/>
                            </p:stCondLst>
                            <p:childTnLst>
                              <p:par>
                                <p:cTn id="60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456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500"/>
                            </p:stCondLst>
                            <p:childTnLst>
                              <p:par>
                                <p:cTn id="6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3000"/>
                            </p:stCondLst>
                            <p:childTnLst>
                              <p:par>
                                <p:cTn id="63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470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76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477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3400"/>
                            </p:stCondLst>
                            <p:childTnLst>
                              <p:par>
                                <p:cTn id="70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3900"/>
                            </p:stCondLst>
                            <p:childTnLst>
                              <p:par>
                                <p:cTn id="7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4900"/>
                            </p:stCondLst>
                            <p:childTnLst>
                              <p:par>
                                <p:cTn id="7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3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69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650"/>
                            </p:stCondLst>
                            <p:childTnLst>
                              <p:par>
                                <p:cTn id="7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850"/>
                            </p:stCondLst>
                            <p:childTnLst>
                              <p:par>
                                <p:cTn id="75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550"/>
                            </p:stCondLst>
                            <p:childTnLst>
                              <p:par>
                                <p:cTn id="7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6050"/>
                            </p:stCondLst>
                            <p:childTnLst>
                              <p:par>
                                <p:cTn id="79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6550"/>
                            </p:stCondLst>
                            <p:childTnLst>
                              <p:par>
                                <p:cTn id="8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500"/>
                            </p:stCondLst>
                            <p:childTnLst>
                              <p:par>
                                <p:cTn id="82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050"/>
                            </p:stCondLst>
                            <p:childTnLst>
                              <p:par>
                                <p:cTn id="837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550"/>
                            </p:stCondLst>
                            <p:childTnLst>
                              <p:par>
                                <p:cTn id="849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3200"/>
                            </p:stCondLst>
                            <p:childTnLst>
                              <p:par>
                                <p:cTn id="861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3750"/>
                            </p:stCondLst>
                            <p:childTnLst>
                              <p:par>
                                <p:cTn id="873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4250"/>
                            </p:stCondLst>
                            <p:childTnLst>
                              <p:par>
                                <p:cTn id="88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4900"/>
                            </p:stCondLst>
                            <p:childTnLst>
                              <p:par>
                                <p:cTn id="897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5450"/>
                            </p:stCondLst>
                            <p:childTnLst>
                              <p:par>
                                <p:cTn id="90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6050"/>
                            </p:stCondLst>
                            <p:childTnLst>
                              <p:par>
                                <p:cTn id="91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6700"/>
                            </p:stCondLst>
                            <p:childTnLst>
                              <p:par>
                                <p:cTn id="92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7200"/>
                            </p:stCondLst>
                            <p:childTnLst>
                              <p:par>
                                <p:cTn id="93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7750"/>
                            </p:stCondLst>
                            <p:childTnLst>
                              <p:par>
                                <p:cTn id="94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8250"/>
                            </p:stCondLst>
                            <p:childTnLst>
                              <p:par>
                                <p:cTn id="95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2920" y="2421000"/>
            <a:ext cx="83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7" name=""/>
          <p:cNvSpPr/>
          <p:nvPr/>
        </p:nvSpPr>
        <p:spPr>
          <a:xfrm>
            <a:off x="7024320" y="269064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682400" y="269064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295480" y="2690640"/>
            <a:ext cx="63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. 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516160" y="2870280"/>
            <a:ext cx="16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%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805000" y="3036960"/>
            <a:ext cx="290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99624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348.0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3308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,806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454240" y="30369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6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804640" y="320364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radiciona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99624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321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3308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,199.9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454240" y="32036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788080" y="3370320"/>
            <a:ext cx="43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094520" y="33703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93.3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633080" y="337032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,512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454240" y="33703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2.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795280" y="353700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22736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.4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731000" y="35370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8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48448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4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822280" y="3703680"/>
            <a:ext cx="109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tróleo y derivad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09452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4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73100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5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454240" y="3703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8.8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7800" y="3870360"/>
            <a:ext cx="49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ícol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16040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0.6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731000" y="38703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3.3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45424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3.1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800680" y="4037040"/>
            <a:ext cx="744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nufactur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9624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026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63308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606.3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454240" y="4037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9.3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798880" y="420372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09452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8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73100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16.1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454240" y="4203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2.1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0" y="437040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exti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09452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15.9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73100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7.2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8454240" y="4370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3.1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3120" y="4537080"/>
            <a:ext cx="50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16040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3.6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731000" y="45370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8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845424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.9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792040" y="470376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Quím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16040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2.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731000" y="47037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12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845424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10040" y="4870440"/>
            <a:ext cx="8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etal-mecán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16040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4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797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6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454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7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792760" y="5035680"/>
            <a:ext cx="102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Sidero-metalúrg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16040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8.8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731000" y="5035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0.9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845424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816880" y="5202360"/>
            <a:ext cx="1059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ía no metálic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16040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0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797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2.2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8454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.6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803920" y="536904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rtesaní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22736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75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86384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.2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454240" y="5369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817240" y="5535720"/>
            <a:ext cx="100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deras y pape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16040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731000" y="5535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71.0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845424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6.6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815800" y="5702400"/>
            <a:ext cx="78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ieles y c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227360" y="57024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797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2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454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6.4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827680" y="5865840"/>
            <a:ext cx="1009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Varios (inc. Joyería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16040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4.7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797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5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454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7.8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841000" y="6111720"/>
            <a:ext cx="199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Fuente: SUNAT</a:t>
            </a:r>
            <a:r>
              <a:rPr b="0" lang="es-MX" sz="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27200" y="2514600"/>
            <a:ext cx="2736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icipación de EE.UU. en las Exportaciones (2003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072920" y="2870280"/>
            <a:ext cx="928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730840" y="266220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0" y="2838600"/>
            <a:ext cx="21686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730840" y="31780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730840" y="31780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730840" y="33447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30840" y="33447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730840" y="40114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730840" y="40114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730840" y="41781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730840" y="41781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730840" y="601344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24360" y="242100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755640" y="3191040"/>
            <a:ext cx="4775040" cy="254304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900000" y="5661000"/>
            <a:ext cx="40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62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2220840" y="3103560"/>
            <a:ext cx="1800" cy="1736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163600" y="484020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163600" y="4597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163600" y="433692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163600" y="4094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163600" y="3851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163600" y="360828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163600" y="3346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163600" y="3103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220840" y="4840200"/>
            <a:ext cx="59929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222084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9703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37195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46724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521640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59659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671508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746460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82137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595600" y="3309840"/>
            <a:ext cx="5243400" cy="989280"/>
          </a:xfrm>
          <a:custGeom>
            <a:avLst/>
            <a:gdLst/>
            <a:ahLst/>
            <a:rect l="l" t="t" r="r" b="b"/>
            <a:pathLst>
              <a:path w="280" h="53">
                <a:moveTo>
                  <a:pt x="0" y="0"/>
                </a:moveTo>
                <a:lnTo>
                  <a:pt x="40" y="9"/>
                </a:lnTo>
                <a:lnTo>
                  <a:pt x="80" y="33"/>
                </a:lnTo>
                <a:lnTo>
                  <a:pt x="120" y="39"/>
                </a:lnTo>
                <a:lnTo>
                  <a:pt x="160" y="49"/>
                </a:lnTo>
                <a:lnTo>
                  <a:pt x="200" y="53"/>
                </a:lnTo>
                <a:lnTo>
                  <a:pt x="240" y="50"/>
                </a:lnTo>
                <a:lnTo>
                  <a:pt x="280" y="46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38360" y="325296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287880" y="342108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037040" y="386856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786200" y="398160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535720" y="4168800"/>
            <a:ext cx="11268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284880" y="4243320"/>
            <a:ext cx="11124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032600" y="418608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781760" y="4111560"/>
            <a:ext cx="11304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147560" y="2617920"/>
            <a:ext cx="219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Tasa de Desempl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152480" y="373860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515640" y="38131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766480" y="379404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110920" y="36082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361400" y="35337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713680" y="28987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6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688560" y="31971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5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824120" y="4710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824120" y="4467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824120" y="420516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824120" y="3962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824120" y="3719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824120" y="3476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24120" y="3216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824120" y="2973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4570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20652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954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7034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4525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20208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951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7007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631880" y="5470560"/>
            <a:ext cx="667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1905120" y="6400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0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6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0" dur="50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9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4" dur="500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8" dur="500"/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2" dur="500"/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7" dur="500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1" dur="500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3" dur="500"/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7" dur="500"/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0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500"/>
                            </p:stCondLst>
                            <p:childTnLst>
                              <p:par>
                                <p:cTn id="10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0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500"/>
                            </p:stCondLst>
                            <p:childTnLst>
                              <p:par>
                                <p:cTn id="10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3" dur="500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7" dur="500"/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0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500"/>
                            </p:stCondLst>
                            <p:childTnLst>
                              <p:par>
                                <p:cTn id="10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0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6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1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0" dur="5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4" dur="500"/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8" dur="500"/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2" dur="500"/>
                                        <p:tgtEl>
                                          <p:spTgt spid="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0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5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3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7" dur="500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4724280" y="1779480"/>
          <a:ext cx="4135680" cy="260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779480"/>
                    <a:ext cx="413568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6781680" y="4365720"/>
            <a:ext cx="2590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762120" y="3649680"/>
            <a:ext cx="46479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jore</cp:lastModifiedBy>
  <dcterms:modified xsi:type="dcterms:W3CDTF">2004-08-13T15:23:01Z</dcterms:modified>
  <cp:revision>657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20418868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  <property fmtid="{D5CDD505-2E9C-101B-9397-08002B2CF9AE}" pid="6" name="_PreviousAdHocReviewCycleID">
    <vt:r8>-768413957</vt:r8>
  </property>
</Properties>
</file>